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9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5698-EEEA-4DC8-8C8D-9D2E1A36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1431-FDB0-47DE-B382-69DA8334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2352-A6FE-4287-ABCD-AA6A2EAE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49E-1710-47D4-B9A4-C2AE19C6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37D3-D8FD-4416-AA4A-ED576D34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A271-59F9-41FE-8952-7759F58D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B663-6539-40AD-90A7-28F949DA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F0AB-5C87-48E6-91B1-130FC4BC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3E42-1E5E-45FE-B5A3-0C439A4B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17C2-39AD-4F9A-9EA0-6E6C612B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DE3C-C547-4388-8CC7-480E8758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3CAF-59A7-428F-8921-9498029A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11F8-2469-420C-A591-DEBFC9A8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647C-94A0-4AC0-B5F6-E2365A86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7F06-DC1C-475C-9A2D-074514EB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E93A-1A83-43F2-A456-A26FB6E4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392F-0746-4E0F-BF74-317A3720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5BD8C-5A80-4441-B347-F48402E8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7AED4-EF97-4D61-AB46-BB5C9F9A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ADE8E-C5BE-4955-AE1E-2B287B89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17340-237D-4C71-BD50-08A3A37D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495EB-1318-469A-8967-B0C678EF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846C-73B3-40C5-A8A8-BA88C9D4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9E188-FD42-4892-9EEB-562FD4C2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6E54F-F3E7-416D-9EAC-F9562B92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8AE67-8DEA-4E12-B619-DAD97B97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E3A4C-0A63-455D-95D8-42642516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936A0-7AF6-496B-89CB-DFE3CFB4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8192E-5A68-41D0-AC3E-3164E935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1FC98-6EA9-4CC4-8D21-CD37D99D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95EDC-1717-4CD6-BD40-6909C3B3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53590-5EA2-4324-9684-D6E973F9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491A0-DD12-483C-82DA-D75ECBEE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22F-09F9-4212-B8DF-48C324A1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54670-0275-46B3-AD3D-2180F498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C2F7F-BFFF-498C-8912-0D08AC3E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0550F-F453-440C-82AA-C2647ABC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5402C-87A6-40EB-85DE-93CFF7FC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8073C-44F2-4326-BE7B-9E51173F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B166B-C980-4A08-A8DA-87B38593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6EB4A-6EA2-4494-8148-6DD33576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3A71E-6692-4485-A0F3-46B52690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233AD-8DEE-44BD-96FB-218D509A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2A728-611F-4283-AC0C-59D4482F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B533-F741-4B36-A6C5-82DC3972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AA01C-BE75-4C6D-A242-EC5F481B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46A6F-AC13-4860-9BE4-330BE486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B5E93-59C8-40E9-BF1B-4E9DE99D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5DEBD-CA8C-4301-A087-63F51601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01B1C-B106-4EAA-8089-2E5715EA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560EB-6B43-4A1B-AAE9-867CF096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2B799-359F-4EB0-9D16-F382A54D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0C267-2622-407F-B4B2-D88FA475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FC318-85C0-428C-A846-229AC06C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84614-FE8B-48D7-A2B2-3883BDA2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C12E-37AD-4A5B-8E7E-F35B1FA1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E2C45-596F-40F8-B426-8456B29C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C00A0-3E67-4463-8915-23D1E891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EA7A8-3B42-4043-AEFA-5C0BA21B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403D3-9B69-41E1-A8F2-F0A0FA41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093AF-BC5D-46BB-8188-5459299C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F3E15-308F-45DF-9996-387617FE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89AB8-43A7-4843-BC71-591EEACA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EA7F5-B795-46E0-BF31-E4F02695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48D61-E2E7-49AA-8F3F-11888A16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94394-D4BC-495C-9464-64ED7E3D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E896-8D6F-4048-831B-5CAD8812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5D1F9-889C-4BEB-B370-432470BA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CC23F-7E3D-419B-8732-004E2FE0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CEED3-033D-4948-AE93-7CAE4B64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7AB8B-B56C-49AD-BB63-DCFFB548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BC095-CCE2-4913-98F7-7CD436D9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DF6EF-790C-4A7D-9E1C-02E602EF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ABDF2-0ACB-4404-8D0D-89A46B13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9EFA6-6E61-435C-B17F-5C975CEB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4591D-9976-4375-8894-F58199CE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6E01C-56B1-424C-91A0-43AAF02C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4904-D410-485E-8C92-0F0028D3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91E09-9E53-48A0-A552-4B687CAF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3D089-8385-4403-B208-769B66CF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D1E46-B570-45A3-B0C1-9129A5D7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F1601-5AF0-4E90-9B0B-ABC14ADB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4C2A8-7B09-4DC4-82A4-D85A7199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4749E-0126-4AB7-8F9B-76635D6C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B7AEB-E8D0-40C1-B21F-E2EA4D5D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B59D7-A937-484E-A87F-E6336C62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28F44-1616-4546-BCA1-4ABD973F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C3785-4F7B-46A6-A2A7-9987B531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1DA2-A46E-4B12-BE3B-A8961F03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98664-D0FA-4AC7-A776-69C8DAA7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E0DBB-6CC9-4C31-BC77-714E208A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287F2-62D4-4B86-82C4-A5D72B8B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EAA80-FBFD-40DD-B54E-26010A58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0D948-D3E6-4E3B-B60F-7B1F5CAE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8B072-3777-444B-8F7A-89DFC4EE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0AF3A-8FE8-4F21-B251-73712441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1556-0EF5-4C11-9F74-FB8E5E05C42D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8C89-C1B7-4DFC-B6B1-09442B571669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A24B-0A02-4DF6-999E-9DA1A8476CC9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35B2-8187-4498-992A-DC9A834A1DE7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9FA8-6326-4E58-8CB4-1129172B2903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A2D3-AEA5-4ABF-A421-22C51EBCE458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F38A-8D5F-4B58-806E-C0C93387E851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1940-CAB2-4164-AD74-AEC68C173135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razumniki.ru/risovanie_ded_moroz.html" TargetMode="External"/><Relationship Id="rId3" Type="http://schemas.openxmlformats.org/officeDocument/2006/relationships/hyperlink" Target="http://www.razumniki.ru/risovanie_ded_moroz.html" TargetMode="External"/><Relationship Id="rId4" Type="http://schemas.openxmlformats.org/officeDocument/2006/relationships/hyperlink" Target="http://uucyc.ru/riddles/topic/Ded_Moroz-" TargetMode="External"/><Relationship Id="rId5" Type="http://schemas.openxmlformats.org/officeDocument/2006/relationships/hyperlink" Target="http://uucyc.ru/riddles/topic/Ded_Moroz-" TargetMode="External"/><Relationship Id="rId6" Type="http://schemas.openxmlformats.org/officeDocument/2006/relationships/hyperlink" Target="http://uucyc.ru/riddles/topic/Ded_Moroz-" TargetMode="External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Прямоугольник 3" descr=""/>
          <p:cNvPicPr/>
          <p:nvPr/>
        </p:nvPicPr>
        <p:blipFill>
          <a:blip r:embed="rId1"/>
          <a:stretch/>
        </p:blipFill>
        <p:spPr>
          <a:xfrm>
            <a:off x="1566720" y="85680"/>
            <a:ext cx="5712120" cy="1974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" descr="D:\клипарты\новый год\дед мороз и снегурочка\0aed08fe342d.png"/>
          <p:cNvPicPr/>
          <p:nvPr/>
        </p:nvPicPr>
        <p:blipFill>
          <a:blip r:embed="rId2"/>
          <a:stretch/>
        </p:blipFill>
        <p:spPr>
          <a:xfrm>
            <a:off x="5680080" y="1344600"/>
            <a:ext cx="3463920" cy="5513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D:\клипарты\новый год\дед мороз и снегурочка\7f99dc4ce883.jpg"/>
          <p:cNvPicPr/>
          <p:nvPr/>
        </p:nvPicPr>
        <p:blipFill>
          <a:blip r:embed="rId3"/>
          <a:stretch/>
        </p:blipFill>
        <p:spPr>
          <a:xfrm>
            <a:off x="250920" y="2205000"/>
            <a:ext cx="3600360" cy="4299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Как рисовать Деда Мороза"/>
          <p:cNvPicPr/>
          <p:nvPr/>
        </p:nvPicPr>
        <p:blipFill>
          <a:blip r:embed="rId1"/>
          <a:srcRect l="0" t="46351" r="53504" b="0"/>
          <a:stretch/>
        </p:blipFill>
        <p:spPr>
          <a:xfrm>
            <a:off x="1947960" y="357120"/>
            <a:ext cx="4938480" cy="608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Как рисовать Деда Мороза"/>
          <p:cNvPicPr/>
          <p:nvPr/>
        </p:nvPicPr>
        <p:blipFill>
          <a:blip r:embed="rId1"/>
          <a:srcRect l="45000" t="46351" r="8496" b="0"/>
          <a:stretch/>
        </p:blipFill>
        <p:spPr>
          <a:xfrm>
            <a:off x="2286000" y="785880"/>
            <a:ext cx="4214880" cy="519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Как рисовать Деда Мороза"/>
          <p:cNvPicPr/>
          <p:nvPr/>
        </p:nvPicPr>
        <p:blipFill>
          <a:blip r:embed="rId1"/>
          <a:srcRect l="0" t="0" r="0" b="52058"/>
          <a:stretch/>
        </p:blipFill>
        <p:spPr>
          <a:xfrm>
            <a:off x="449280" y="1714680"/>
            <a:ext cx="8418600" cy="3929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Как рисовать Деда Мороза"/>
          <p:cNvPicPr/>
          <p:nvPr/>
        </p:nvPicPr>
        <p:blipFill>
          <a:blip r:embed="rId1"/>
          <a:srcRect l="15774" t="47951" r="10297" b="0"/>
          <a:stretch/>
        </p:blipFill>
        <p:spPr>
          <a:xfrm>
            <a:off x="571680" y="928800"/>
            <a:ext cx="7643520" cy="523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Прямоугольник 2" descr=""/>
          <p:cNvPicPr/>
          <p:nvPr/>
        </p:nvPicPr>
        <p:blipFill>
          <a:blip r:embed="rId1"/>
          <a:stretch/>
        </p:blipFill>
        <p:spPr>
          <a:xfrm>
            <a:off x="907920" y="298440"/>
            <a:ext cx="7473960" cy="865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Как рисовать Деда Мороза"/>
          <p:cNvPicPr/>
          <p:nvPr/>
        </p:nvPicPr>
        <p:blipFill>
          <a:blip r:embed="rId2"/>
          <a:srcRect l="7378" t="0" r="9018" b="69927"/>
          <a:stretch/>
        </p:blipFill>
        <p:spPr>
          <a:xfrm>
            <a:off x="487440" y="1538280"/>
            <a:ext cx="7648560" cy="4605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Как рисовать Деда Мороза"/>
          <p:cNvPicPr/>
          <p:nvPr/>
        </p:nvPicPr>
        <p:blipFill>
          <a:blip r:embed="rId1"/>
          <a:srcRect l="0" t="26750" r="0" b="35808"/>
          <a:stretch/>
        </p:blipFill>
        <p:spPr>
          <a:xfrm>
            <a:off x="493560" y="642960"/>
            <a:ext cx="8089920" cy="507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Как рисовать Деда Мороза"/>
          <p:cNvPicPr/>
          <p:nvPr/>
        </p:nvPicPr>
        <p:blipFill>
          <a:blip r:embed="rId1"/>
          <a:srcRect l="17915" t="64197" r="26117" b="0"/>
          <a:stretch/>
        </p:blipFill>
        <p:spPr>
          <a:xfrm>
            <a:off x="2500200" y="1001880"/>
            <a:ext cx="4786560" cy="512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Как рисовать Деда Мороза"/>
          <p:cNvPicPr/>
          <p:nvPr/>
        </p:nvPicPr>
        <p:blipFill>
          <a:blip r:embed="rId1"/>
          <a:srcRect l="12699" t="0" r="9504" b="67983"/>
          <a:stretch/>
        </p:blipFill>
        <p:spPr>
          <a:xfrm>
            <a:off x="1071720" y="1928880"/>
            <a:ext cx="7000560" cy="421164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3" descr=""/>
          <p:cNvPicPr/>
          <p:nvPr/>
        </p:nvPicPr>
        <p:blipFill>
          <a:blip r:embed="rId2"/>
          <a:stretch/>
        </p:blipFill>
        <p:spPr>
          <a:xfrm>
            <a:off x="1274760" y="19080"/>
            <a:ext cx="5802480" cy="1150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Как рисовать Деда Мороза"/>
          <p:cNvPicPr/>
          <p:nvPr/>
        </p:nvPicPr>
        <p:blipFill>
          <a:blip r:embed="rId1"/>
          <a:srcRect l="0" t="30485" r="0" b="34889"/>
          <a:stretch/>
        </p:blipFill>
        <p:spPr>
          <a:xfrm>
            <a:off x="500040" y="1714680"/>
            <a:ext cx="8005680" cy="405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Как рисовать Деда Мороза"/>
          <p:cNvPicPr/>
          <p:nvPr/>
        </p:nvPicPr>
        <p:blipFill>
          <a:blip r:embed="rId1"/>
          <a:srcRect l="26251" t="65115" r="23124" b="0"/>
          <a:stretch/>
        </p:blipFill>
        <p:spPr>
          <a:xfrm>
            <a:off x="1714680" y="928800"/>
            <a:ext cx="5286240" cy="5325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" descr="D:\клипарты\новый год\дед мороз и снегурочка\57b018aae1d0.png"/>
          <p:cNvPicPr/>
          <p:nvPr/>
        </p:nvPicPr>
        <p:blipFill>
          <a:blip r:embed="rId1"/>
          <a:stretch/>
        </p:blipFill>
        <p:spPr>
          <a:xfrm>
            <a:off x="0" y="836640"/>
            <a:ext cx="4143240" cy="582912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3"/>
          <p:cNvSpPr/>
          <p:nvPr/>
        </p:nvSpPr>
        <p:spPr>
          <a:xfrm>
            <a:off x="2700360" y="428760"/>
            <a:ext cx="587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Он приходит в зимний веч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Зажигать на елке свечи. 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Бородой седой оброс, кто же э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Как рисовать Санту"/>
          <p:cNvPicPr/>
          <p:nvPr/>
        </p:nvPicPr>
        <p:blipFill>
          <a:blip r:embed="rId1"/>
          <a:srcRect l="7044" t="0" r="15469" b="70899"/>
          <a:stretch/>
        </p:blipFill>
        <p:spPr>
          <a:xfrm>
            <a:off x="928800" y="1143000"/>
            <a:ext cx="7972200" cy="471492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3" descr=""/>
          <p:cNvPicPr/>
          <p:nvPr/>
        </p:nvPicPr>
        <p:blipFill>
          <a:blip r:embed="rId2"/>
          <a:stretch/>
        </p:blipFill>
        <p:spPr>
          <a:xfrm>
            <a:off x="1189080" y="85680"/>
            <a:ext cx="6559560" cy="865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Как рисовать Санту"/>
          <p:cNvPicPr/>
          <p:nvPr/>
        </p:nvPicPr>
        <p:blipFill>
          <a:blip r:embed="rId1"/>
          <a:srcRect l="0" t="26400" r="0" b="35766"/>
          <a:stretch/>
        </p:blipFill>
        <p:spPr>
          <a:xfrm>
            <a:off x="1214280" y="1714680"/>
            <a:ext cx="7434360" cy="442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Как рисовать Санту"/>
          <p:cNvPicPr/>
          <p:nvPr/>
        </p:nvPicPr>
        <p:blipFill>
          <a:blip r:embed="rId1"/>
          <a:srcRect l="0" t="64954" r="0" b="0"/>
          <a:stretch/>
        </p:blipFill>
        <p:spPr>
          <a:xfrm>
            <a:off x="334800" y="1643040"/>
            <a:ext cx="8217000" cy="4533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1"/>
          <p:cNvSpPr/>
          <p:nvPr/>
        </p:nvSpPr>
        <p:spPr>
          <a:xfrm>
            <a:off x="285840" y="28584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ожно не просто нарисовать Деда Мороза или Санту, можно оформить их изображениями стеклянные ёлочные шары. Можно сделать поделку - "Ёлочный шар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Как рисовать елочный шар"/>
          <p:cNvPicPr/>
          <p:nvPr/>
        </p:nvPicPr>
        <p:blipFill>
          <a:blip r:embed="rId1"/>
          <a:srcRect l="0" t="0" r="0" b="50675"/>
          <a:stretch/>
        </p:blipFill>
        <p:spPr>
          <a:xfrm>
            <a:off x="1071720" y="1928880"/>
            <a:ext cx="6283080" cy="421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Как рисовать елочный шар"/>
          <p:cNvPicPr/>
          <p:nvPr/>
        </p:nvPicPr>
        <p:blipFill>
          <a:blip r:embed="rId1"/>
          <a:srcRect l="0" t="50449" r="0" b="0"/>
          <a:stretch/>
        </p:blipFill>
        <p:spPr>
          <a:xfrm>
            <a:off x="571680" y="1071720"/>
            <a:ext cx="7124400" cy="4800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Как рисовать елочный шар"/>
          <p:cNvPicPr/>
          <p:nvPr/>
        </p:nvPicPr>
        <p:blipFill>
          <a:blip r:embed="rId1"/>
          <a:stretch/>
        </p:blipFill>
        <p:spPr>
          <a:xfrm>
            <a:off x="1000080" y="1071720"/>
            <a:ext cx="7707240" cy="4938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Как рисовать Деда Мороза"/>
          <p:cNvPicPr/>
          <p:nvPr/>
        </p:nvPicPr>
        <p:blipFill>
          <a:blip r:embed="rId1"/>
          <a:srcRect l="0" t="0" r="0" b="69666"/>
          <a:stretch/>
        </p:blipFill>
        <p:spPr>
          <a:xfrm>
            <a:off x="357120" y="714240"/>
            <a:ext cx="8315280" cy="408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Как рисовать Деда Мороза"/>
          <p:cNvPicPr/>
          <p:nvPr/>
        </p:nvPicPr>
        <p:blipFill>
          <a:blip r:embed="rId1"/>
          <a:srcRect l="0" t="29497" r="0" b="36797"/>
          <a:stretch/>
        </p:blipFill>
        <p:spPr>
          <a:xfrm>
            <a:off x="380880" y="1357200"/>
            <a:ext cx="7858080" cy="428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Скругленный прямоугольник 2"/>
          <p:cNvSpPr/>
          <p:nvPr/>
        </p:nvSpPr>
        <p:spPr>
          <a:xfrm>
            <a:off x="5219640" y="836640"/>
            <a:ext cx="3384720" cy="1728720"/>
          </a:xfrm>
          <a:prstGeom prst="roundRect">
            <a:avLst>
              <a:gd name="adj" fmla="val 16667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есенка Деда Мор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" descr="D:\клипарты\новый год\дед мороз и снегурочка\1и.png"/>
          <p:cNvPicPr/>
          <p:nvPr/>
        </p:nvPicPr>
        <p:blipFill>
          <a:blip r:embed="rId1"/>
          <a:stretch/>
        </p:blipFill>
        <p:spPr>
          <a:xfrm>
            <a:off x="684360" y="692280"/>
            <a:ext cx="4471920" cy="552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Прямоугольник 1"/>
          <p:cNvSpPr/>
          <p:nvPr/>
        </p:nvSpPr>
        <p:spPr>
          <a:xfrm>
            <a:off x="4211640" y="692280"/>
            <a:ext cx="457200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292ca"/>
                </a:solidFill>
                <a:uFillTx/>
                <a:latin typeface="Gill Sans MT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b292ca"/>
                </a:solidFill>
                <a:uFillTx/>
                <a:latin typeface="Gill Sans MT"/>
                <a:hlinkClick r:id="rId3"/>
              </a:rPr>
              <a:t>www.razumniki.ru/risovanie_ded_moroz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292ca"/>
                </a:solidFill>
                <a:uFillTx/>
                <a:latin typeface="Gill Sans MT"/>
                <a:hlinkClick r:id="rId4"/>
              </a:rPr>
              <a:t>http://</a:t>
            </a:r>
            <a:r>
              <a:rPr b="0" lang="en-US" sz="1800" spc="-1" strike="noStrike" u="sng">
                <a:solidFill>
                  <a:srgbClr val="b292ca"/>
                </a:solidFill>
                <a:uFillTx/>
                <a:latin typeface="Gill Sans MT"/>
                <a:hlinkClick r:id="rId5"/>
              </a:rPr>
              <a:t>uucyc.ru/riddles/topic/Ded_Moroz</a:t>
            </a:r>
            <a:r>
              <a:rPr b="0" lang="en-US" sz="1800" spc="-1" strike="noStrike" u="sng">
                <a:solidFill>
                  <a:srgbClr val="b292ca"/>
                </a:solidFill>
                <a:uFillTx/>
                <a:latin typeface="Gill Sans MT"/>
                <a:hlinkClick r:id="rId6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D:\клипарты\новый год\дед мороз и снегурочка\58c789c6f592.png"/>
          <p:cNvPicPr/>
          <p:nvPr/>
        </p:nvPicPr>
        <p:blipFill>
          <a:blip r:embed="rId7"/>
          <a:stretch/>
        </p:blipFill>
        <p:spPr>
          <a:xfrm>
            <a:off x="971640" y="404640"/>
            <a:ext cx="3052800" cy="4044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Как рисовать Деда Мороза"/>
          <p:cNvPicPr/>
          <p:nvPr/>
        </p:nvPicPr>
        <p:blipFill>
          <a:blip r:embed="rId1"/>
          <a:srcRect l="0" t="0" r="53334" b="50889"/>
          <a:stretch/>
        </p:blipFill>
        <p:spPr>
          <a:xfrm>
            <a:off x="3000240" y="270000"/>
            <a:ext cx="3857760" cy="6116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Как рисовать Деда Мороза"/>
          <p:cNvPicPr/>
          <p:nvPr/>
        </p:nvPicPr>
        <p:blipFill>
          <a:blip r:embed="rId1"/>
          <a:srcRect l="50008" t="0" r="0" b="50889"/>
          <a:stretch/>
        </p:blipFill>
        <p:spPr>
          <a:xfrm>
            <a:off x="2786040" y="428760"/>
            <a:ext cx="3929040" cy="581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Как рисовать Деда Мороза"/>
          <p:cNvPicPr/>
          <p:nvPr/>
        </p:nvPicPr>
        <p:blipFill>
          <a:blip r:embed="rId1"/>
          <a:srcRect l="0" t="50226" r="53334" b="0"/>
          <a:stretch/>
        </p:blipFill>
        <p:spPr>
          <a:xfrm>
            <a:off x="2714760" y="285840"/>
            <a:ext cx="3857400" cy="619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Как рисовать Деда Мороза"/>
          <p:cNvPicPr/>
          <p:nvPr/>
        </p:nvPicPr>
        <p:blipFill>
          <a:blip r:embed="rId1"/>
          <a:srcRect l="53334" t="49116" r="0" b="0"/>
          <a:stretch/>
        </p:blipFill>
        <p:spPr>
          <a:xfrm>
            <a:off x="2571840" y="214200"/>
            <a:ext cx="3786120" cy="622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Прямоугольник 2" descr=""/>
          <p:cNvPicPr/>
          <p:nvPr/>
        </p:nvPicPr>
        <p:blipFill>
          <a:blip r:embed="rId1"/>
          <a:stretch/>
        </p:blipFill>
        <p:spPr>
          <a:xfrm>
            <a:off x="1474920" y="225360"/>
            <a:ext cx="6218280" cy="14749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Как рисовать Деда Мороза"/>
          <p:cNvPicPr/>
          <p:nvPr/>
        </p:nvPicPr>
        <p:blipFill>
          <a:blip r:embed="rId2"/>
          <a:srcRect l="0" t="0" r="69333" b="52254"/>
          <a:stretch/>
        </p:blipFill>
        <p:spPr>
          <a:xfrm>
            <a:off x="3071880" y="1857240"/>
            <a:ext cx="2643120" cy="4395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Как рисовать Деда Мороза"/>
          <p:cNvPicPr/>
          <p:nvPr/>
        </p:nvPicPr>
        <p:blipFill>
          <a:blip r:embed="rId1"/>
          <a:srcRect l="64502" t="0" r="0" b="52254"/>
          <a:stretch/>
        </p:blipFill>
        <p:spPr>
          <a:xfrm>
            <a:off x="2214720" y="285840"/>
            <a:ext cx="4417920" cy="6348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Как рисовать Деда Мороза"/>
          <p:cNvPicPr/>
          <p:nvPr/>
        </p:nvPicPr>
        <p:blipFill>
          <a:blip r:embed="rId1"/>
          <a:srcRect l="30002" t="0" r="35505" b="52254"/>
          <a:stretch/>
        </p:blipFill>
        <p:spPr>
          <a:xfrm>
            <a:off x="2143080" y="357120"/>
            <a:ext cx="4275360" cy="6321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1:17:01Z</dcterms:created>
  <dc:creator>Helen</dc:creator>
  <dc:description/>
  <dc:language>en-US</dc:language>
  <cp:lastModifiedBy>Берюхов</cp:lastModifiedBy>
  <dcterms:modified xsi:type="dcterms:W3CDTF">2025-12-09T07:10:20Z</dcterms:modified>
  <cp:revision>6</cp:revision>
  <dc:subject/>
  <dc:title>Слайд 1</dc:title>
</cp:coreProperties>
</file>